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294C-64BE-4B77-875C-AB683FEE3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5A18-2658-492D-9297-0B858D5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F77-0696-4C36-9D85-DB6CBC08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0B72-82CE-4E12-9B8C-8506CA0A9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EB7-F11F-4382-8FEC-81308DC8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D2EB-9B43-436D-B6EE-6BF6D62F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3E1-23D5-4C67-9916-74B615ED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11A0-61CC-4FE9-842A-668B5027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39D-306F-4BB5-A689-021855D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122-64F5-4BAD-A39B-C754B137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82A-F612-4912-B43F-259CAEC0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E4D-F766-40AB-9D71-8153BCD1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378-472C-464D-8320-F43548C5301F}" type="slidenum">
              <a:rPr b="0" lang="tr-T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HAF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 İsim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ek fiile çekimlenmiş isim veya isim soylu  bir kelime ol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 fiil, -idi, -imiş, -ise, -idir (-di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kiz saatti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trendeyim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, tren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oş ve neşes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zun bir yolculuktan sonr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İncesu’daydı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kadaşları arasında hiç tanıdığı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nsan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ka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; /Irmak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su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) YÜKLEMİN YERİNE GÖRE CÜMLEL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n cümle içindeki yeri bakımından İKİ çeşit cümle vardır: Kurallı ve 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1. Kurallı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sonda bulunan cümledir. Türkçede cümlenin ana öğesi ola yüklem genellikle sonda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tamamlayan öğeler, yüklemin önünde bulunur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e en yakın olan öğe vurgulanmak istenen öğ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neme yazarı, her şeyden önce dili çok iyi kul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Nezih’i artık çarşıda gören yo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Devrik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sonda bulunmay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çeşit cümlelere daha çok konuşma dilinde, şiirlerde, atasözleri ve deyimlere rast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Sakla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manı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ge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zaman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ümit uğrun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şıyoruz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hepim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ün olu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aybedebi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nsan sağlığın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s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tık dökülen kanlarımın hepsi hel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00040"/>
            <a:ext cx="7675560" cy="4178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D. ANLAMINA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lamına göre cümleler ÜÇ türde incel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Olumlu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tiğini anlatan cümle türüdür. Yüklem yapma, yapılma veya olma bildi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eni bu güzel havalar mahvet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t kocayınca köpeğin maskarası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erçek belirince yalan ortadan kalkar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pı bakımından olumsuz görünen bazı cümleler anlamca olumludur.  Yükleminde olumsuzluk anlamı taşıyan bir cümle “değil” edatı ile birleşince olumlu bir anlam kaz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tan al bayrağın dalgalandığı yer değil mi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 dönemde bunlar bilin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asıl cevap vereceğini bil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tür cümlelere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pıca olumsuz anlamca olumlu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Olumsuz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mediğini anlatan cümleler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-ma, -me” olumsuzluk eki, “değil” edatı ve “yok” ismi, cümleyi olumsuz yapan unsurlar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lih’i artık çarşıda gören 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güler yüzlü adam ben değil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o dünyadan hiçbir haber y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Ne….ne….” bağlacı da cümlenin anlamını olumsuz yap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şair yaş döke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aşık a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evenim va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oranım v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ir vefa gördüm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fayda bul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. Soru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ru yoluyla bilgi almayı amaçlayan cümledir. Soru cümlesi olumlu veya olumsuz olabilir. Soru cümleleri genellikle  soru edatı, soru sıfatı, soru zamiri, soru zarfları ile yapılabilmekt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eden coşkun akan suların sesi gittikçe dind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ngi konuyu anlama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için bu kadar geç kal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oktor içeride m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96140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GUL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şağıdaki cümlelerin öğelerini bularak cümleleri; yapı, anlam, yüklemin yeri ve yüklemin türü bakımından inceleyel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asit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anlam ve yapılarına, yüklemin türüne ve yüklemin yerine göre şu şekilde sınıflandı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) Yapısına göre cümleler: Basit, birleşik, bağlı, sıral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) Yüklemin türüne göre: Fiil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) Yüklemin yerine göre: Kurallı ve devr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) Anlamına göre: Olumlu, olumsuz, soru, ün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bu cümle türlerini ayrıntılı şekilde incelemeye çalışalı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atılmazdı: 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ynalar: Ne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uçlar insanın yüzünde görünseydi: Zarf tüml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şartlı birleşik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iyidir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aslan olan koyun sürüsü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koyun olan aslan sürüsünden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isim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şarkıların bu kadar güzel, kelimelerinse kifayetsiz olduğunu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elirtili nes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Zarf tümle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714240"/>
            <a:ext cx="8496000" cy="3943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ayla yaptım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elirtili nes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ngöl çobanlarına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000" y="3398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YNAKÇ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MİROSMANOĞLU, A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- Kompozisyon,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nisa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GİN, Muharrem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Üniversiteler İçin Türk Dil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Bayrak Yay., İstanbul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HAN, Leyla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de Sözdizimi-Cümle Tahlilleri-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Akçağ Yay., Ankara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SOY, Yakup vd.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Uygulamalı Türk Dili ve Kompozisyo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Sel-ün Yay., Konya 2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A. YAPISINA GÖRE CÜMLEL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1. Basit cümle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pısında isim veya fiil cinsinden tek yüklem bulunan cümle, basit cümledir. Bu cümleler tek bir yargı bildirirler. Yüklem dışındaki öğelerin sayısı önemli değil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ürkçede cümleler genellikle basit yapılı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ğri cetvelden doğru çizgi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çık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kıllı düşman, akılsız dosttan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eğ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üneş balçıkl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sıvan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ıcak yaz aylarını geçirmek için deniz kenarlarına, kırlara, tepelere kaçanlar, şimdi birer birer kışlıkların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önüyor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2.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r ana cümle ve cümlenin anlamını tamamlayan bir veya daha fazla yardımcı cümle ile kurulan cümlelere den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birden fazla yargı bulunan cümlelerdir. Türkçed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şartlı birleşik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ki’li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iç içe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lmak üzer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ÜÇ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çeşit birleşik cümle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a. Şartlı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şart kipi bulunan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erslerine düzenli çalışırsa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ınıfı kolay geçers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Pazar günü hava güzel olurs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ezmeye gideceğ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Cihanın yurdu hep çiğnens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/ Çiğnenmez senin yurdun. (M.A.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Artık demir almak günü gelmişse zamanda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/ Meçhule giden bir gemi kalkar bu liman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. Ki’li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“ki” bağlacı ile yapılan birleşik cümledir. Ki bağlacı bir fiilden sonra gelince bağlama görevinde kullanılmış ol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uydum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nutmuşsun gözlerimin rengi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Kızıl havaları seyret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kşam olmak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Ne büyüksün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nın kurtarıyor tevh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. İç içe birleşik cüml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: Bir cümlenin herhangi bir görevle başka bir cümlede yer almasıyla meydana gelen birleşik cüml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debiyat öğretmeni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içinizde “Han Duvarları”nı okuyan var m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Yaşamak zevki ned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 ölümden kork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el müdür,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Kimseye bayrama kadar izin verilmeyecek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min Bey, sert bir ses tonuyla: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Sen kendini ne sanıyorsun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Bağlı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ağlaçlarla birbirine bağlanan cümlelerdir. Bu cümleler “ki” veya diğer bağlaçlarla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ırılacak diye öyle korktum k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va bulutlu ve Seyir tepesi rüzgarlı i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önlümle oturdum da hüzünlendim o y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ekasız kuvvet yıkabilir, fakat yapa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4. Sıralı cümleler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k başına bir yargı bildiren cümlelerin bir anlam bütünlüğü içinde oluşturduğu cümleler topluluğ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 veya daha fazla cümleden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birbirinden virgül veya noktalı virgülle ay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ozlu ve soluk kırmızı perdelerden yakıcı bir güneş taşıyor, bütün odayı dolduru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rı çiçeğin saçları yolunmuş, kana bulanmışt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285480"/>
            <a:ext cx="760392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YÜKLEMİN TÜRÜNE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n türüne göre cümleler İKİ çeşittir.  Fiil cümlesi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Fiil cümles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Yüklemi çekimli bir fiil olan cümledir. Her çeşit iş, oluş ve hareket fiil cümleleri ile karşılanır. Bu sebeple fiil cümleleri isim cümlelerine göre daha fazla kullan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essamın içine birdenbire tarifi imkansız bir hüzün çökt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nci kata yayvan ve geniş merdivenlerle çık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0:44Z</dcterms:created>
  <dc:creator>hsn</dc:creator>
  <dc:description/>
  <dc:language>en-US</dc:language>
  <cp:lastModifiedBy>pc</cp:lastModifiedBy>
  <dcterms:modified xsi:type="dcterms:W3CDTF">2018-04-23T19:21:53Z</dcterms:modified>
  <cp:revision>84</cp:revision>
  <dc:subject/>
  <dc:title>3.HAFTA-CÜMLE TÜRLERİ VE CÜMLE ÇÖZÜMLEMELERİ</dc:title>
</cp:coreProperties>
</file>